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705-6F79-4F03-8DF0-C4BBCDF8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46AA-F2B2-48BD-82E2-CDD805CA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E24-EE85-423D-98EE-322BA021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CCE-A591-4791-8080-693E3FA9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8AE0-7CA4-4EE3-841F-CEAF9E38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69F9-4915-408A-8864-86201A60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E8A0-DD80-44CE-9D4D-FD4BC6F5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7F90-92F7-4794-9D28-E70D8F6C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A6FE-63C4-4DB9-B824-E5E0636D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7F8C-22D8-486D-8B53-D69679D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6A42-27D6-437D-B9F8-F7207623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A24-9101-48BB-BC94-E5C56213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F8A8-795D-4294-9ABD-72B61F1A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6B91-4570-41E6-AD28-C1FD1E43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BFC7-1701-4A40-BD0B-4698AF6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D92A-8D70-4A44-824C-DEA212B1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B6E5-667F-4944-9379-7EF24820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E26-7788-4089-8F56-9B07C12C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640-F3CE-456B-9DF6-73D683CC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6473-2F2B-4CD0-8F5A-65602580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6FE-EBF8-4269-A42B-902B2A9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87A-BFA6-4DFE-A23A-57E844D1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8A3-38B8-4790-9629-5672E69D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1F3-CB92-48C7-B37A-71AFA2F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07960" indent="-20088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10440" indent="-20088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C213-2187-4B4B-97A7-211EBD5E3DD6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084A-540B-4535-9CD1-A518705CC21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hapter 28:  Unemploymen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76720" y="3505320"/>
            <a:ext cx="441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a simple stroll on the bea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4FB0-1CAF-415F-9898-FD143E989C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iving up hop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blems aris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ton of newbies to job for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ld guys decide to try agai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CSOURAGED WORK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L KIND OF DISTORT PICTUR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11F9-D343-4BA9-90C2-583EA91108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et rid of on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 is the guy we try to avoi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ways some but why gov’t fight now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ASONAL, FRICTIONAL, STRUCTUR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ELP IS ON THE W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B3F-BB65-4036-B1EA-2F2004476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Expensive to figh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nding that out now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trying to help sometimes hurt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EMPLOYMENT INSURAN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has changed as of lat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will minimum wage, unions, &amp; efficiency wages impact it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BB82-D72D-4265-B6FD-569D1C46F1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Make a pictu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76E-C776-4D36-B92E-8C38ADE298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s it really worth fighting?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’s expensive but consider the costs of doing nothing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ot worth 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current plan effectiv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oblem arises when again considering the grap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3DB-A070-4305-9447-E4CE9892EA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ome guy figured it ou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nd 2% decrease in GDP compared to potential = 1% increase in unemploy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ere is our economy now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y will we continue to see increase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’s the best approach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member the focus on growth &amp; productivit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967-BAEE-451C-9DC7-FF81640A5E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t’s like homework…never going away complet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ry to manage &amp; regulate (gov’t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in goal is overall stabilit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413-6108-4B3C-B68F-E9C8F41027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unemploy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fferent typ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ng-run vs short-ru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ATURAL RATE OF UNEMPLOYMENT (graph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uses of i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16 slide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54D-A417-4CEA-9FF7-F0ABCEF4A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Vocab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rate of un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, frictional, structural, season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scouraged worker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fficiency wag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37F-3D2A-4369-83D3-8F3A8494FF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not always a bad gu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s it only ba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al not to eliminate completel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en possible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cus on difference between long &amp; short run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AEB-9D46-4969-9E2D-594805DE9A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Natural vs cyclical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economy has ability to self-correc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uctuations smoothe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andbar speec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ome is almost necessary, or at least inevitabl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fference comes from typ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A23-9838-49D7-BE0C-86EA2216C2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nevitabl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will always have som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oal is to keep economy functioning at capacit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RATE (LONG RUN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luctuations like now due to business cycle (CYCLICAL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icture it with a graph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F3D-8361-449A-9A04-12FD66BAE7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It’s a fully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atural is the same as FULL EMPLOYMEN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ate economy hovers around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oesn’t mean it’s ideal, but that’s just what it 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~4-5.5%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CEA-1EAF-4F3B-89A3-0A1CF5A951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Take a drop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economy is bad (kinda like now)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YCLICA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ry to avoid &amp; fight agains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ut how is it calculated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4FB-FDEC-4516-B032-763B490922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ompar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LABOR FORCE, EMPLOYED, UNEMPLOYED, NOT IN LABOR FORC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 = unemployed / labor force x 100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lso consider labor force participation ra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9B3-83FC-4C25-BABF-8EF2207946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4:04:54Z</dcterms:created>
  <dc:creator>Lewisburg Area School District</dc:creator>
  <dc:description/>
  <dc:language>en-US</dc:language>
  <cp:lastModifiedBy>Lewisburg Area School District</cp:lastModifiedBy>
  <dcterms:modified xsi:type="dcterms:W3CDTF">2010-02-03T17:00:33Z</dcterms:modified>
  <cp:revision>7</cp:revision>
  <dc:subject/>
  <dc:title>Chapter 28:  Unemployment</dc:title>
</cp:coreProperties>
</file>